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F828-8C2A-4F88-87AC-34D22983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7C6B-3D74-4653-BB34-E2B5963FBA1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AE7-0350-4273-923E-07DDBA0F057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CF0C-215E-4036-96CD-9BDAC1DA94D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566-1311-41A8-BCD3-4FA69D2E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6E9-0F0D-4811-90A5-82DDCEF5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FA8-D080-462F-9959-ECC4FB82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771-7E2D-4372-8AC3-E20D8117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3643-A4D7-4402-879B-D540FBEF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DF9D-FF1C-4BDA-B62E-C0ED407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30D5-E14D-4FCC-9296-E802F244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1CBE-D59E-4CCA-BFC0-C5B8EAEE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1DB-2AC9-4EF6-A7A8-D389A18C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64F6-03F1-4F2B-A999-A2AC402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4C7E-23B5-462C-B9A8-C180270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C93-F041-4B41-A6C6-C71FAEC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E63B-DC57-4EC3-AAF5-F709EB6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D143-6328-4A23-82FF-AD566701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43F3-5B9D-4E0F-9CCC-A225B96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3CF-F9F1-43AF-A6EF-9B2717A7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7208-50A4-4169-B2CF-CA963389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E64-3BE7-47A6-A021-FFADF4D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B04-019C-4CA6-A7E8-F117C7CA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B3F-9A13-449D-89ED-201B63D9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8FF-C981-44A1-8C81-66F3F5E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7E4-75A1-4DD0-A6D2-01A17A2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0E5-5E1B-40BA-B08A-C43EF0B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A6F-5835-4613-8E9E-110ADE2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41F-61FF-4193-AE82-1827E6D46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049-B20C-47FC-96CA-A855A9B08C9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sessing Texts to Plan and Differentiate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Common Core Standards materials in relation to this tas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3" name="Picture 3" descr="Screen shot 2012-09-30 at 12.35.05 PM.png"/>
          <p:cNvPicPr/>
          <p:nvPr/>
        </p:nvPicPr>
        <p:blipFill>
          <a:blip r:embed="rId2"/>
          <a:stretch/>
        </p:blipFill>
        <p:spPr>
          <a:xfrm>
            <a:off x="990720" y="3200400"/>
            <a:ext cx="6705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ynthesize key ideas about </a:t>
            </a: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narrative and expository text structu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extbook, Karen Wixson, and Barbara Mos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ee a model of explicit instruction around expository text (I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ractice planning explicit instruction around expository text (We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nnect with more practice and application of ideas to your group’s text (You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urn and Tal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c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tween narrative and expository tex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ich texts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re challeng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readers and why?  Use evidence from your readings to support your reason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this context, what do you think is the meaning of the phrase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urth grade slump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 might we counteract the fourth grade slump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to more informational texts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Wixson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creases vocab, comprehension, motivation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uilds knowledge of expository text structur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mproves reading, writing, content knowledge and home-school literacy connection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and explicit instructio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Moss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Model and practice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telling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s precursor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ynthesi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ttend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ext structure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ignal words,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lationships between idea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ake advantage of enthusiasm and link to real world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rrative Texts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tell a story) …</a:t>
            </a:r>
            <a:br>
              <a:rPr sz="2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characters confront problems &gt; which sets up a plot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nd where does the story take plac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he story about? Who wants something?  By the end, who changes the mos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problem? What happened? Why? How was the problem solve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ext really about? What’s the universal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elling the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words used in special ways (e.g., fig. lang, mood, humor, iron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s (to explain, inform, or persuad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ccurate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Vs Information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lends non-fiction with some narrative elemen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ositiona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= “explanatory” writing with common thinking patterns &gt; which pattern(s) does the author use to make his argu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common expository text patterns?  What signal words are associated with each pattern? 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 Patter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use/Eff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scription/Explan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blem-Solu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588920" y="2357280"/>
            <a:ext cx="338400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, in contrast, while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587480" y="2971800"/>
            <a:ext cx="3250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therefore; if/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89280" y="3805200"/>
            <a:ext cx="3228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example; detail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92160" y="4572000"/>
            <a:ext cx="3925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rst, second, next, finally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90720" y="5253120"/>
            <a:ext cx="4092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, question, answer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1"/>
          <p:cNvCxnSpPr>
            <a:endCxn id="105" idx="1"/>
          </p:cNvCxnSpPr>
          <p:nvPr/>
        </p:nvCxnSpPr>
        <p:spPr>
          <a:xfrm flipV="1">
            <a:off x="4191120" y="2588400"/>
            <a:ext cx="38160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endCxn id="106" idx="1"/>
          </p:cNvCxnSpPr>
          <p:nvPr/>
        </p:nvCxnSpPr>
        <p:spPr>
          <a:xfrm>
            <a:off x="3428640" y="3201480"/>
            <a:ext cx="1143720" cy="10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V="1">
            <a:off x="3124080" y="4037760"/>
            <a:ext cx="137232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V="1">
            <a:off x="2895120" y="4876560"/>
            <a:ext cx="160092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4114800" y="548604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deling Explicit Instruction of Expository Text Comprehens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6" name="Picture 3" descr="Screen shot 2012-09-30 at 11.22.13 AM.png"/>
          <p:cNvPicPr/>
          <p:nvPr/>
        </p:nvPicPr>
        <p:blipFill>
          <a:blip r:embed="rId1"/>
          <a:stretch/>
        </p:blipFill>
        <p:spPr>
          <a:xfrm>
            <a:off x="533520" y="2133720"/>
            <a:ext cx="304308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764880" y="1905120"/>
            <a:ext cx="4906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an you imagine digging a hol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your backyard to plant some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lowers and, to your surpri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uncover treasures from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re than 1,000 years ago?? </a:t>
            </a:r>
            <a:br>
              <a:rPr sz="2400"/>
            </a:b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would you do?  Would you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ell anyon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’s read The First Discovery to find out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ppened when a farmer named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nzecchetta digs out a well in southern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aly to discover something unbelievable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what you’ve learned about narrative and expository text features AND how to scaffold understanding of challenging text to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ocate &amp; n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ing featur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/or cont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pose a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ructional practic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could be used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ly teach about expository tex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building comprehension and motiva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read further at each of these challenging poin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en in the teaching cycl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would integrate this practice (before, during, and/or afte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0" name="Picture 3" descr="Screen shot 2012-09-30 at 11.22.13 AM.png"/>
          <p:cNvPicPr/>
          <p:nvPr/>
        </p:nvPicPr>
        <p:blipFill>
          <a:blip r:embed="rId3"/>
          <a:stretch/>
        </p:blipFill>
        <p:spPr>
          <a:xfrm>
            <a:off x="7467480" y="6858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4:24:04Z</dcterms:created>
  <dc:creator>Julie Coiro</dc:creator>
  <dc:description/>
  <dc:language>en-US</dc:language>
  <cp:lastModifiedBy>Julie Coiro</cp:lastModifiedBy>
  <dcterms:modified xsi:type="dcterms:W3CDTF">2013-09-29T21:18:39Z</dcterms:modified>
  <cp:revision>210</cp:revision>
  <dc:subject/>
  <dc:title>Metacognitive Strategy Instruction to Enhance Reading Comprehension</dc:title>
</cp:coreProperties>
</file>